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910B-C5A9-449F-AF73-2E3EA18794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5E04-37FF-44CB-8232-A4701E5D2A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CA8E-254C-4E3B-9FBC-6F080825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E054-5682-4A4B-98B6-7A66831C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B6EF-BE86-4F7F-9D3F-DABECDC9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1E0F-90D3-49AC-A702-78227891B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2814-7914-43D7-A4F6-DFC422EAB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BFE4-227C-449F-9CCE-17448345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A4AA-DE90-44B9-8364-A38DDBB6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BBCD-ED6D-4612-926E-7F7A6A46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8CCE-EF15-4F86-85EF-5FCAA359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E6D5-AEA6-477D-B26A-0E1D48DC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1A26-B41A-4401-857A-66454EE0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D9E4-9B2B-4467-8948-FD85C1EF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1DEB-3731-4301-998B-8A4B7832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D806-EDB9-4CD3-B51A-6EFB5E1E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D979-AC73-44C0-81E7-3357F681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1A57-F1EB-4E42-9688-1DC98874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FC5E-D210-48B0-83C6-DECCE9A6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9306C-5BDB-4B18-ADEC-5A99434E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BB95D-8871-484E-8E89-8C79BB82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4979F-2DE9-4782-A1B0-1D5F410C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9D437-106C-494D-9D9D-405D8200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D0BEB-F3DA-4321-82C7-045BA858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2627-5954-47B4-92E3-2518D6CC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16DAD-5B62-478C-B7A2-779BEA99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24F84-B0BE-462E-BECD-224B6D0F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013E1-092A-4577-875E-92916503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F902E-C804-46F6-9277-0F69276A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E129D-676F-4E92-87D9-6E0D37AC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C69BE-5078-49FC-ACD5-BCC66AB8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011C7-0371-4963-AA10-0745012E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BFE0A-59FC-4CC3-8AFD-DFA5431AA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B7679-4B80-40DC-8706-AC52F5F8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A216D-749A-4466-A823-993FAC2E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B1BA-F808-4902-ACE5-2C04C612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4329A-B7A0-4126-B49A-91D203D9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29653-E0D3-4127-B81D-DD39F3F5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56852-83E8-4D60-A481-D9C28327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8E44F-8BC7-42F0-A235-18F339EB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63944-FA2F-49D0-92A0-3C3F32DD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76B05-3DCE-4A9A-8D58-042B59F1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F3367-9F98-4A24-874E-75DCFC5B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621BF-A337-4D41-B6FB-9856AA07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276A3-9816-4685-A82E-317A4A3B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86711-881B-4FCD-9542-16F5191B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2319-0188-4A7A-A817-07B5671D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91E80-0318-435F-A225-073CAA39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6F6E1-2EC5-472C-AEDC-327ECC03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265AF-4FEB-47DA-AFE3-845D1EAA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BF2CB-C2F2-43A1-8330-12E50D71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F57B9-EE24-4AB0-A89F-34EBE566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45967-E7FD-45CD-BDB2-F5DF68CA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9396C-0526-43C7-ACD1-7925B208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91582-D049-4B4C-BD93-EBFF03B3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F350B-2CAB-463F-992E-D2014AD7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E9034-A1F8-4D6C-BDFB-6AF9D319F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51C8-2B82-49EC-B8FB-7EAA1A7D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14807-2CED-4425-AD31-72BED75DC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9BB4-EA85-4F85-99C9-A11E2EFE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F52D-4DFF-412D-80EF-E988D788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44DB-6EFB-4ABA-A04D-AF8A225D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1089-809B-4536-88C9-6585C35C499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22B5-658C-4B5B-B91C-8D736691B91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0ACA-3074-4BA9-89CE-4BF2B392BDB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0DDA-E929-4C37-8CD7-A445F3B2806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C4B5-E7ED-42B1-B32E-C96CB625D9E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317520" y="-6480"/>
            <a:ext cx="9094680" cy="1414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Users\79995\Desktop\Ёжик на полянке\103790211_large_79695346_large_ezhik_2.jpg"/>
          <p:cNvPicPr/>
          <p:nvPr/>
        </p:nvPicPr>
        <p:blipFill>
          <a:blip r:embed="rId2"/>
          <a:stretch/>
        </p:blipFill>
        <p:spPr>
          <a:xfrm>
            <a:off x="395280" y="1484280"/>
            <a:ext cx="4105440" cy="5160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C:\Users\79995\Desktop\Ёжик на полянке\79695358_yozhik_1.jpg"/>
          <p:cNvPicPr/>
          <p:nvPr/>
        </p:nvPicPr>
        <p:blipFill>
          <a:blip r:embed="rId3"/>
          <a:stretch/>
        </p:blipFill>
        <p:spPr>
          <a:xfrm>
            <a:off x="4788000" y="1484280"/>
            <a:ext cx="4113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02972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5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Users\79995\Desktop\Ёжик на полянке\79695346_ezhik_2.jpg"/>
          <p:cNvPicPr/>
          <p:nvPr/>
        </p:nvPicPr>
        <p:blipFill>
          <a:blip r:embed="rId1"/>
          <a:stretch/>
        </p:blipFill>
        <p:spPr>
          <a:xfrm>
            <a:off x="324000" y="1413000"/>
            <a:ext cx="4030560" cy="5068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Users\79995\Desktop\Ёжик на полянке\79695356_yozhik2a.jpg"/>
          <p:cNvPicPr/>
          <p:nvPr/>
        </p:nvPicPr>
        <p:blipFill>
          <a:blip r:embed="rId2"/>
          <a:stretch/>
        </p:blipFill>
        <p:spPr>
          <a:xfrm>
            <a:off x="4572000" y="1052640"/>
            <a:ext cx="4284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Arial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C:\Users\79995\Desktop\Ёжик на полянке\79695358_yozhik_1.jpg"/>
          <p:cNvPicPr/>
          <p:nvPr/>
        </p:nvPicPr>
        <p:blipFill>
          <a:blip r:embed="rId1"/>
          <a:stretch/>
        </p:blipFill>
        <p:spPr>
          <a:xfrm>
            <a:off x="250920" y="1397160"/>
            <a:ext cx="4392360" cy="5460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C:\Users\79995\Desktop\Ёжик на полянке\101312675_5177462_yozhik_1a.jpg"/>
          <p:cNvPicPr/>
          <p:nvPr/>
        </p:nvPicPr>
        <p:blipFill>
          <a:blip r:embed="rId2"/>
          <a:stretch/>
        </p:blipFill>
        <p:spPr>
          <a:xfrm>
            <a:off x="4716360" y="1096920"/>
            <a:ext cx="4103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1"/>
          <p:cNvSpPr/>
          <p:nvPr/>
        </p:nvSpPr>
        <p:spPr>
          <a:xfrm>
            <a:off x="395280" y="26028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C:\Users\79995\Desktop\Ёжик на полянке 2\a289aaeead17cc1b951f22fd15d9a73e.jpg"/>
          <p:cNvPicPr/>
          <p:nvPr/>
        </p:nvPicPr>
        <p:blipFill>
          <a:blip r:embed="rId1"/>
          <a:stretch/>
        </p:blipFill>
        <p:spPr>
          <a:xfrm>
            <a:off x="826920" y="801720"/>
            <a:ext cx="698508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2-06T12:31:25Z</dcterms:modified>
  <cp:revision>38</cp:revision>
  <dc:subject/>
  <dc:title>ТВОРЧЕСКАЯ ДЕЯТЕЛЬНОСТЬ: ЗНАКОМСТВО С ТЕХНИКОЙ ИЗОНИТЬ</dc:title>
</cp:coreProperties>
</file>